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F28-73E6-4FFB-A0A7-00D70390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6D5-7B00-4D99-8578-9837218D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A9C-7626-403C-BE22-B3E37E20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3AB-22CC-42D9-9249-59B0C3F2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2737-C917-4BAD-9718-79231158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F0E2-D320-4A3E-944A-A242F306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AA49-ABF2-41DB-BB3D-2657E9C6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A062-9A8C-49A4-AEA3-E043DFB2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D4C8-938B-4D4E-AB42-D5B68660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18EB-AB47-4FE8-A456-F9B06FD8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EA80-8C7D-4230-A951-A4FF343E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32C-5908-4FA8-A7F4-C007D804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344D-7D9C-4C22-838A-E9780B58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5C99-B5AB-4101-BD0D-BB6353C0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A8C1-6965-4386-B959-C06B7BBD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9225-D4BB-4E19-8D86-6516054B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7B2F-3E78-4128-B724-49C9B4E7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EE7-BFA3-4AEF-AE1B-CCA94D13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4A68-F9B3-4EAC-B004-ED005688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185-5B27-450D-BCFB-D4A6F3BB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394B-811C-475A-8F18-40237484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E60-6F7C-4DB6-9762-E55CF4AE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A32C-0414-4771-8C13-652068E8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FD9-41D7-407C-83CD-612F55AA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990E-4D71-43DD-A7EE-A08053B4FE8E}" type="datetime">
              <a:rPr b="0" lang="en-US" sz="9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66BA-0DBD-4567-BD12-672E0D30CEA6}" type="slidenum">
              <a:rPr b="0" lang="en-US" sz="9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LOGO"/>
          <p:cNvPicPr/>
          <p:nvPr/>
        </p:nvPicPr>
        <p:blipFill>
          <a:blip r:embed="rId3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C18E-B4A5-4414-ACDB-17C8C30CDCC7}" type="datetime">
              <a:rPr b="0" lang="en-US" sz="900" spc="-1" strike="noStrike">
                <a:solidFill>
                  <a:srgbClr val="898989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0ACE-344D-467F-8771-B412C2155B26}" type="slidenum">
              <a:rPr b="0" lang="en-US" sz="9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3068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3400" spc="-1" strike="noStrike">
                <a:solidFill>
                  <a:srgbClr val="000066"/>
                </a:solidFill>
                <a:latin typeface="Calibri Light"/>
              </a:rPr>
              <a:t>Г03- КЛИНИЧКА ФАРМАЦИЈА 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2F04-4A96-432B-875E-43DA1A090311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195640" y="2133720"/>
            <a:ext cx="43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тегрисане студије фармациј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2344680" y="50846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001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Calibri Light"/>
              </a:rPr>
              <a:t>Дисциплина клиничке фармације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66280" y="2636640"/>
            <a:ext cx="77504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Истицањем да клиничка фармација </a:t>
            </a:r>
            <a:r>
              <a:rPr b="0" i="1" lang="sr-Latn-CS" sz="2600" spc="-1" strike="noStrike">
                <a:solidFill>
                  <a:srgbClr val="000066"/>
                </a:solidFill>
                <a:latin typeface="Calibri"/>
              </a:rPr>
              <a:t>обухвата филозофију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CS" sz="2600" spc="-1" strike="noStrike">
                <a:solidFill>
                  <a:srgbClr val="00ff00"/>
                </a:solidFill>
                <a:latin typeface="Calibri"/>
              </a:rPr>
              <a:t>фармацеутске нег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дефиниција усмерава пажњу ка чињеници да је основни циљ праксе и истраживања коначн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3400" spc="-1" strike="noStrike">
                <a:solidFill>
                  <a:srgbClr val="000066"/>
                </a:solidFill>
                <a:latin typeface="Calibri"/>
              </a:rPr>
              <a:t>пацијент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AC25-DCA7-41D9-8697-DD3275966D55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3300" spc="-1" strike="noStrike">
                <a:solidFill>
                  <a:srgbClr val="000066"/>
                </a:solidFill>
                <a:latin typeface="Calibri Light"/>
              </a:rPr>
              <a:t>клинички фармацеут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2060"/>
                </a:solidFill>
                <a:latin typeface="Calibri"/>
              </a:rPr>
              <a:t>Примена </a:t>
            </a:r>
            <a:r>
              <a:rPr b="0" i="1" lang="sr-Latn-CS" sz="2600" spc="-1" strike="noStrike">
                <a:solidFill>
                  <a:srgbClr val="002060"/>
                </a:solidFill>
                <a:latin typeface="Calibri"/>
              </a:rPr>
              <a:t>доказа</a:t>
            </a:r>
            <a:r>
              <a:rPr b="0" lang="sr-Latn-CS" sz="2600" spc="-1" strike="noStrike">
                <a:solidFill>
                  <a:srgbClr val="002060"/>
                </a:solidFill>
                <a:latin typeface="Calibri"/>
              </a:rPr>
              <a:t> и </a:t>
            </a:r>
            <a:r>
              <a:rPr b="0" i="1" lang="sr-Latn-CS" sz="2600" spc="-1" strike="noStrike">
                <a:solidFill>
                  <a:srgbClr val="002060"/>
                </a:solidFill>
                <a:latin typeface="Calibri"/>
              </a:rPr>
              <a:t>развоја науке</a:t>
            </a:r>
            <a:r>
              <a:rPr b="0" lang="sr-Latn-CS" sz="2600" spc="-1" strike="noStrike">
                <a:solidFill>
                  <a:srgbClr val="002060"/>
                </a:solidFill>
                <a:latin typeface="Calibri"/>
              </a:rPr>
              <a:t> од стране клиничког фармацеута истиче да је клиничка фармација дисциплина са кореном у науц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2060"/>
                </a:solidFill>
                <a:latin typeface="Calibri"/>
              </a:rPr>
              <a:t>примена </a:t>
            </a:r>
            <a:r>
              <a:rPr b="0" i="1" lang="sr-Latn-CS" sz="2600" spc="-1" strike="noStrike">
                <a:solidFill>
                  <a:srgbClr val="002060"/>
                </a:solidFill>
                <a:latin typeface="Calibri"/>
              </a:rPr>
              <a:t>правних, етичких, социјалних, културних, економских и професионалних принципа</a:t>
            </a:r>
            <a:r>
              <a:rPr b="0" lang="sr-Latn-CS" sz="2600" spc="-1" strike="noStrike">
                <a:solidFill>
                  <a:srgbClr val="002060"/>
                </a:solidFill>
                <a:latin typeface="Calibri"/>
              </a:rPr>
              <a:t> служи да нас подсети да пракса клиничке фармације такође узима у обзир </a:t>
            </a:r>
            <a:r>
              <a:rPr b="0" lang="sr-CS" sz="2600" spc="-1" strike="noStrike">
                <a:solidFill>
                  <a:srgbClr val="002060"/>
                </a:solidFill>
                <a:latin typeface="Calibri"/>
              </a:rPr>
              <a:t>и </a:t>
            </a:r>
            <a:r>
              <a:rPr b="0" lang="sr-Latn-CS" sz="2600" spc="-1" strike="noStrike">
                <a:solidFill>
                  <a:srgbClr val="002060"/>
                </a:solidFill>
                <a:latin typeface="Calibri"/>
              </a:rPr>
              <a:t>друштвен</a:t>
            </a:r>
            <a:r>
              <a:rPr b="0" lang="sr-CS" sz="2600" spc="-1" strike="noStrike">
                <a:solidFill>
                  <a:srgbClr val="002060"/>
                </a:solidFill>
                <a:latin typeface="Calibri"/>
              </a:rPr>
              <a:t>е</a:t>
            </a:r>
            <a:r>
              <a:rPr b="0" lang="sr-Latn-CS" sz="2600" spc="-1" strike="noStrike">
                <a:solidFill>
                  <a:srgbClr val="002060"/>
                </a:solidFill>
                <a:latin typeface="Calibri"/>
              </a:rPr>
              <a:t> фактор</a:t>
            </a:r>
            <a:r>
              <a:rPr b="0" lang="sr-CS" sz="2600" spc="-1" strike="noStrike">
                <a:solidFill>
                  <a:srgbClr val="002060"/>
                </a:solidFill>
                <a:latin typeface="Calibri"/>
              </a:rPr>
              <a:t>е</a:t>
            </a:r>
            <a:r>
              <a:rPr b="0" lang="sr-Latn-CS" sz="2600" spc="-1" strike="noStrike">
                <a:solidFill>
                  <a:srgbClr val="002060"/>
                </a:solidFill>
                <a:latin typeface="Calibri"/>
              </a:rPr>
              <a:t> који се простиру изван науке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C1AE-AC83-4FD4-8272-5F3DF71ACEE7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sr-CS" sz="3000" spc="-1" strike="noStrike">
                <a:solidFill>
                  <a:srgbClr val="000066"/>
                </a:solidFill>
                <a:latin typeface="Calibri Light"/>
              </a:rPr>
              <a:t>К</a:t>
            </a:r>
            <a:r>
              <a:rPr b="0" lang="sr-Latn-CS" sz="3000" spc="-1" strike="noStrike">
                <a:solidFill>
                  <a:srgbClr val="000066"/>
                </a:solidFill>
                <a:latin typeface="Calibri Light"/>
              </a:rPr>
              <a:t>линички фармацеут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2923920"/>
            <a:ext cx="788688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sr-Latn-CS" sz="2100" spc="-1" strike="noStrike">
                <a:solidFill>
                  <a:srgbClr val="002060"/>
                </a:solidFill>
                <a:latin typeface="Calibri"/>
              </a:rPr>
              <a:t>преузима одговорност и надлежност</a:t>
            </a:r>
            <a:r>
              <a:rPr b="0" lang="sr-Latn-CS" sz="2100" spc="-1" strike="noStrike">
                <a:solidFill>
                  <a:srgbClr val="002060"/>
                </a:solidFill>
                <a:latin typeface="Calibri"/>
              </a:rPr>
              <a:t> за испуњење терапеутских циљев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2060"/>
                </a:solidFill>
                <a:latin typeface="Calibri"/>
              </a:rPr>
              <a:t>он je више од консултан</a:t>
            </a:r>
            <a:r>
              <a:rPr b="0" lang="sr-CS" sz="2100" spc="-1" strike="noStrike">
                <a:solidFill>
                  <a:srgbClr val="002060"/>
                </a:solidFill>
                <a:latin typeface="Calibri"/>
              </a:rPr>
              <a:t>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2060"/>
                </a:solidFill>
                <a:latin typeface="Calibri"/>
              </a:rPr>
              <a:t>прати </a:t>
            </a:r>
            <a:r>
              <a:rPr b="0" lang="sr-Latn-CS" sz="2100" spc="-1" strike="noStrike">
                <a:solidFill>
                  <a:srgbClr val="002060"/>
                </a:solidFill>
                <a:latin typeface="Calibri"/>
              </a:rPr>
              <a:t> терапиј</a:t>
            </a:r>
            <a:r>
              <a:rPr b="0" lang="sr-CS" sz="2100" spc="-1" strike="noStrike">
                <a:solidFill>
                  <a:srgbClr val="002060"/>
                </a:solidFill>
                <a:latin typeface="Calibri"/>
              </a:rPr>
              <a:t>у</a:t>
            </a:r>
            <a:r>
              <a:rPr b="0" lang="sr-Latn-CS" sz="2100" spc="-1" strike="noStrike">
                <a:solidFill>
                  <a:srgbClr val="002060"/>
                </a:solidFill>
                <a:latin typeface="Calibri"/>
              </a:rPr>
              <a:t> у </a:t>
            </a:r>
            <a:r>
              <a:rPr b="0" i="1" lang="sr-Latn-CS" sz="2100" spc="-1" strike="noStrike">
                <a:solidFill>
                  <a:srgbClr val="002060"/>
                </a:solidFill>
                <a:latin typeface="Calibri"/>
              </a:rPr>
              <a:t>окружењу директне неге пацијена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4935-318D-4390-9211-6D49978D124B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sr-Latn-CS" sz="2200" spc="-1" strike="noStrike">
                <a:solidFill>
                  <a:srgbClr val="000066"/>
                </a:solidFill>
                <a:latin typeface="Calibri Light"/>
              </a:rPr>
              <a:t>Улоге у оквиру система здравствене заштите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клинички фармацеут</a:t>
            </a:r>
            <a:r>
              <a:rPr b="0" lang="sr-Latn-C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100" spc="-1" strike="noStrike">
                <a:solidFill>
                  <a:srgbClr val="002060"/>
                </a:solidFill>
                <a:latin typeface="Calibri"/>
              </a:rPr>
              <a:t>поуздани </a:t>
            </a:r>
            <a:r>
              <a:rPr b="0" i="1" lang="sr-Latn-CS" sz="2100" spc="-1" strike="noStrike">
                <a:solidFill>
                  <a:srgbClr val="002060"/>
                </a:solidFill>
                <a:latin typeface="Calibri"/>
              </a:rPr>
              <a:t> извор научно валидне информације </a:t>
            </a:r>
            <a:r>
              <a:rPr b="0" i="1" lang="sr-Latn-CS" sz="2100" spc="-1" strike="noStrike">
                <a:solidFill>
                  <a:srgbClr val="000066"/>
                </a:solidFill>
                <a:latin typeface="Calibri"/>
              </a:rPr>
              <a:t>и савета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 о </a:t>
            </a:r>
            <a:r>
              <a:rPr b="0" i="1" lang="sr-CS" sz="2100" spc="-1" strike="noStrike">
                <a:solidFill>
                  <a:srgbClr val="000066"/>
                </a:solidFill>
                <a:latin typeface="Calibri"/>
              </a:rPr>
              <a:t>правилној</a:t>
            </a:r>
            <a:r>
              <a:rPr b="0" i="1" lang="sr-Latn-CS" sz="2100" spc="-1" strike="noStrike">
                <a:solidFill>
                  <a:srgbClr val="000066"/>
                </a:solidFill>
                <a:latin typeface="Calibri"/>
              </a:rPr>
              <a:t> примени лекова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EF5F-E891-44C4-ACFE-67F43652A979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981080"/>
            <a:ext cx="8424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Општи циљ активности клиничке фармације је унапређење правилне и одговарајуће употребе леко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Ове активности имају за циљ да се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обезбеди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најефикаснија терапија за сваког пацијент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ризици од појаве нежељених реакција на ту терапију сведу на најмању могућу меру 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средства за спровођење терапије користе на економичан и рационалан нач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010B-BCB8-4AB7-9AE3-D3FBA971BEF2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66280" y="2349360"/>
            <a:ext cx="800100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А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ктивности клиничког фармац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еута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 могу 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да 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ути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чу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 на правилну употребу лекова на три различита ниво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15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1500" spc="-1" strike="noStrike">
                <a:solidFill>
                  <a:srgbClr val="000066"/>
                </a:solidFill>
                <a:latin typeface="Calibri"/>
              </a:rPr>
              <a:t>пре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5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1500" spc="-1" strike="noStrike">
                <a:solidFill>
                  <a:srgbClr val="000066"/>
                </a:solidFill>
                <a:latin typeface="Calibri"/>
              </a:rPr>
              <a:t>током и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5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1500" spc="-1" strike="noStrike">
                <a:solidFill>
                  <a:srgbClr val="000066"/>
                </a:solidFill>
                <a:latin typeface="Calibri"/>
              </a:rPr>
              <a:t>након што је </a:t>
            </a:r>
            <a:r>
              <a:rPr b="0" lang="sr-CS" sz="1500" spc="-1" strike="noStrike">
                <a:solidFill>
                  <a:srgbClr val="000066"/>
                </a:solidFill>
                <a:latin typeface="Calibri"/>
              </a:rPr>
              <a:t>лек</a:t>
            </a:r>
            <a:r>
              <a:rPr b="0" lang="sr-Latn-CS" sz="1500" spc="-1" strike="noStrike">
                <a:solidFill>
                  <a:srgbClr val="000066"/>
                </a:solidFill>
                <a:latin typeface="Calibri"/>
              </a:rPr>
              <a:t> прописан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E1DF-9D41-497F-B703-32C6715E7343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 Light"/>
              </a:rPr>
              <a:t>А</a:t>
            </a:r>
            <a:r>
              <a:rPr b="0" lang="sr-Latn-CS" sz="2100" spc="-1" strike="noStrike">
                <a:solidFill>
                  <a:srgbClr val="000066"/>
                </a:solidFill>
                <a:latin typeface="Calibri Light"/>
              </a:rPr>
              <a:t>ктивности клиничког фармац</a:t>
            </a:r>
            <a:r>
              <a:rPr b="0" lang="sr-CS" sz="2100" spc="-1" strike="noStrike">
                <a:solidFill>
                  <a:srgbClr val="000066"/>
                </a:solidFill>
                <a:latin typeface="Calibri Light"/>
              </a:rPr>
              <a:t>еута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2600" spc="-1" strike="noStrike">
                <a:solidFill>
                  <a:srgbClr val="ed7d31"/>
                </a:solidFill>
                <a:latin typeface="Calibri"/>
              </a:rPr>
              <a:t>Пре</a:t>
            </a:r>
            <a:r>
              <a:rPr b="1" lang="sr-CS" sz="2600" spc="-1" strike="noStrike">
                <a:solidFill>
                  <a:srgbClr val="ed7d31"/>
                </a:solidFill>
                <a:latin typeface="Calibri"/>
              </a:rPr>
              <a:t> </a:t>
            </a:r>
            <a:r>
              <a:rPr b="1" lang="sr-Latn-CS" sz="2600" spc="-1" strike="noStrike">
                <a:solidFill>
                  <a:srgbClr val="ed7d31"/>
                </a:solidFill>
                <a:latin typeface="Calibri"/>
              </a:rPr>
              <a:t>прописивања</a:t>
            </a:r>
            <a:r>
              <a:rPr b="1" lang="sr-CS" sz="2600" spc="-1" strike="noStrike">
                <a:solidFill>
                  <a:srgbClr val="ed7d31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линичка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испитивања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п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рописи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, регулаторна Аген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нформације о леков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2600" spc="-1" strike="noStrike">
                <a:solidFill>
                  <a:srgbClr val="ed7d31"/>
                </a:solidFill>
                <a:latin typeface="Calibri"/>
              </a:rPr>
              <a:t>Током прописивања</a:t>
            </a:r>
            <a:r>
              <a:rPr b="1" lang="sr-CS" sz="2600" spc="-1" strike="noStrike">
                <a:solidFill>
                  <a:srgbClr val="ed7d31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аветодавна активнос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2600" spc="-1" strike="noStrike">
                <a:solidFill>
                  <a:srgbClr val="ed7d31"/>
                </a:solidFill>
                <a:latin typeface="Calibri"/>
              </a:rPr>
              <a:t>Након прописивања</a:t>
            </a:r>
            <a:r>
              <a:rPr b="1" lang="sr-CS" sz="2600" spc="-1" strike="noStrike">
                <a:solidFill>
                  <a:srgbClr val="ed7d31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аветовање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, п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рипрема формулација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 према индивидуалним потребама пацијента, 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процена употребе лекова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, и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страживање исхода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 лечења, ф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армакоекономске студ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2F9C-5909-4237-94E9-D64DAD385B91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6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2500" spc="-1" strike="noStrike">
                <a:solidFill>
                  <a:srgbClr val="000066"/>
                </a:solidFill>
                <a:latin typeface="Times New Roman"/>
              </a:rPr>
              <a:t>Делокруг рада </a:t>
            </a:r>
            <a:r>
              <a:rPr b="1" lang="sr-Latn-CS" sz="2500" spc="-1" strike="noStrike">
                <a:solidFill>
                  <a:srgbClr val="000066"/>
                </a:solidFill>
                <a:latin typeface="Times New Roman"/>
              </a:rPr>
              <a:t>клиничког </a:t>
            </a:r>
            <a:r>
              <a:rPr b="1" lang="sr-CS" sz="2500" spc="-1" strike="noStrike">
                <a:solidFill>
                  <a:srgbClr val="000066"/>
                </a:solidFill>
                <a:latin typeface="Times New Roman"/>
              </a:rPr>
              <a:t>фармацеута</a:t>
            </a:r>
            <a:r>
              <a:rPr b="0" lang="sr-CS" sz="25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500" spc="-1" strike="noStrike">
                <a:solidFill>
                  <a:srgbClr val="000066"/>
                </a:solidFill>
                <a:latin typeface="Times New Roman"/>
              </a:rPr>
              <a:t> укључуј</a:t>
            </a:r>
            <a:r>
              <a:rPr b="0" lang="sr-CS" sz="2500" spc="-1" strike="noStrike">
                <a:solidFill>
                  <a:srgbClr val="000066"/>
                </a:solidFill>
                <a:latin typeface="Times New Roman"/>
              </a:rPr>
              <a:t>е следеће</a:t>
            </a:r>
            <a:r>
              <a:rPr b="0" lang="sr-Latn-CS" sz="2500" spc="-1" strike="noStrike">
                <a:solidFill>
                  <a:srgbClr val="000066"/>
                </a:solidFill>
                <a:latin typeface="Times New Roman"/>
              </a:rPr>
              <a:t> активности: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9280" y="2492280"/>
            <a:ext cx="80708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С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аветовање</a:t>
            </a:r>
            <a:r>
              <a:rPr b="0" lang="en-US" sz="21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Избор леков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Информације о лековим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Формулација и припрема леков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Анализа 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употребе леков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Фармакокинетско/терапијско праћење леков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Клиничке студије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Фармакоекономија</a:t>
            </a:r>
            <a:r>
              <a:rPr b="0" lang="en-US" sz="21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Издавање и примена лекова и медицинских средстава</a:t>
            </a:r>
            <a:r>
              <a:rPr b="0" lang="en-US" sz="21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Настава и обук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6F54-EAC8-4AA8-8458-4941DB342A06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072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3000" spc="-1" strike="noStrike">
                <a:solidFill>
                  <a:srgbClr val="000066"/>
                </a:solidFill>
                <a:latin typeface="Calibri Light"/>
              </a:rPr>
              <a:t>                                              </a:t>
            </a:r>
            <a:br>
              <a:rPr sz="3000"/>
            </a:br>
            <a:br>
              <a:rPr sz="3000"/>
            </a:br>
            <a:r>
              <a:rPr b="1" lang="sr-Latn-CS" sz="2200" spc="-1" strike="noStrike">
                <a:solidFill>
                  <a:srgbClr val="000066"/>
                </a:solidFill>
                <a:latin typeface="Calibri Light"/>
              </a:rPr>
              <a:t>Ф</a:t>
            </a:r>
            <a:r>
              <a:rPr b="1" lang="sr-CS" sz="2200" spc="-1" strike="noStrike">
                <a:solidFill>
                  <a:srgbClr val="000066"/>
                </a:solidFill>
                <a:latin typeface="Calibri Light"/>
              </a:rPr>
              <a:t>АРМАЦЕУТСКА НЕГА</a:t>
            </a:r>
            <a:r>
              <a:rPr b="0" lang="sr-CS" sz="2200" spc="-1" strike="noStrike">
                <a:solidFill>
                  <a:srgbClr val="ffff00"/>
                </a:solidFill>
                <a:latin typeface="Calibri Light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560" y="2060640"/>
            <a:ext cx="83595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Фармацеутска здравствена делатнос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Фармацеутску здравствену делатност обављају фармацеути и фармацеутски техничари са одговарајућом школом здравствене струке, пружајући пацијентима услугу тзв. </a:t>
            </a:r>
            <a:r>
              <a:rPr b="1" lang="sr-CS" sz="2100" spc="-1" strike="noStrike">
                <a:solidFill>
                  <a:srgbClr val="000066"/>
                </a:solidFill>
                <a:latin typeface="Calibri"/>
              </a:rPr>
              <a:t>фармацеутску негу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 (енглески: </a:t>
            </a:r>
            <a:r>
              <a:rPr b="1" lang="en-US" sz="2100" spc="-1" strike="noStrike">
                <a:solidFill>
                  <a:srgbClr val="000066"/>
                </a:solidFill>
                <a:latin typeface="Calibri"/>
              </a:rPr>
              <a:t>Pharmaceutical</a:t>
            </a:r>
            <a:r>
              <a:rPr b="1" lang="sr-CS" sz="2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Calibri"/>
              </a:rPr>
              <a:t>Care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).</a:t>
            </a:r>
            <a:r>
              <a:rPr b="0" lang="en-US" sz="21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26A3-3E47-484A-B6C3-E653B1656E22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F157-FABC-47FF-A18C-482D5B4C1226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400" spc="-1" strike="noStrike">
                <a:solidFill>
                  <a:srgbClr val="000066"/>
                </a:solidFill>
                <a:latin typeface="Calibri Light"/>
              </a:rPr>
              <a:t>Фармацеутска здравствена делатност обухват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Calibri"/>
              </a:rPr>
              <a:t>спровођење превентивних мера за очување и заштиту здравља становништва, односно промоцију здрављ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Calibri"/>
              </a:rPr>
              <a:t>унапређивање фармакотерапијских мера и поступака у рационалној употреби лекова и одређених врста медицинских средстав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Calibri"/>
              </a:rPr>
              <a:t>рационализацију трошкова за спровођење утврђених терапијских протокола лечењ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Calibri"/>
              </a:rPr>
              <a:t>праћење нежељених реакција на лекове и медицинска средства, као и избегавање или смањивање тих реакциј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Calibri"/>
              </a:rPr>
              <a:t>избегавање интеракција терапијског дуплирања примене леков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Calibri"/>
              </a:rPr>
              <a:t>друге послове фармацеутске здравствене делатности, у складу са законо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EE10-BAFB-431C-8DB1-0679596A7B0A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A3CE-A923-4078-B7D3-88AB996D53FA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177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3400" spc="-1" strike="noStrike">
                <a:solidFill>
                  <a:srgbClr val="000066"/>
                </a:solidFill>
                <a:latin typeface="Calibri Light"/>
              </a:rPr>
              <a:t>КЛИНИЧКА ФАРМАЦИЈА 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10920" y="3573000"/>
            <a:ext cx="8001000" cy="2521080"/>
          </a:xfrm>
          <a:prstGeom prst="rect">
            <a:avLst/>
          </a:prstGeom>
          <a:solidFill>
            <a:srgbClr val="e7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Јанковић СМ, Простран М,Тодоровић З. 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армакологија и токсикологија</a:t>
            </a: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Медицински факултет, Крагујевац, 200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Јанковић СМ, уредник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армакологија и токсикологија</a:t>
            </a: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Медицински факултет, Крагујевац, 201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Јанковић СМ, Радоњић В.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Основе клиничке фармације</a:t>
            </a:r>
            <a:r>
              <a:rPr b="1" lang="en-U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армакотерапијски водич</a:t>
            </a: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Агенција за лекове и медицинска средства Србије, број </a:t>
            </a:r>
            <a:r>
              <a:rPr b="0" lang="sr-Latn-R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</a:t>
            </a: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201</a:t>
            </a:r>
            <a:r>
              <a:rPr b="0" lang="sr-Latn-R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.</a:t>
            </a:r>
            <a:r>
              <a:rPr b="0" lang="sr-Latn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Joseph T. DiPiro ...(et al.). </a:t>
            </a:r>
            <a:r>
              <a:rPr b="1" lang="sr-Latn-CS" sz="1700" spc="-1" strike="noStrike">
                <a:solidFill>
                  <a:srgbClr val="000066"/>
                </a:solidFill>
                <a:latin typeface="CYDutchR"/>
                <a:ea typeface="Times New Roman"/>
              </a:rPr>
              <a:t>C</a:t>
            </a:r>
            <a:r>
              <a:rPr b="1" lang="en-U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cepts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linical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harmacokinetics</a:t>
            </a:r>
            <a:r>
              <a:rPr b="0" lang="sr-Latn-CS" sz="1700" spc="-1" strike="noStrike">
                <a:solidFill>
                  <a:srgbClr val="000066"/>
                </a:solidFill>
                <a:latin typeface="CYDutchR"/>
                <a:ea typeface="Times New Roman"/>
              </a:rPr>
              <a:t>. </a:t>
            </a:r>
            <a:r>
              <a:rPr b="0" lang="sr-Latn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merican Society of Health Systems Pharmacists, Inc., 2005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CYDutchR"/>
                <a:ea typeface="Times New Roman"/>
              </a:rPr>
              <a:t>6</a:t>
            </a:r>
            <a:r>
              <a:rPr b="0" lang="en-US" sz="1700" spc="-1" strike="noStrike">
                <a:solidFill>
                  <a:srgbClr val="000066"/>
                </a:solidFill>
                <a:latin typeface="CYDutchR"/>
                <a:ea typeface="Times New Roman"/>
              </a:rPr>
              <a:t>.</a:t>
            </a: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р Покрајац М. 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армакокинетика </a:t>
            </a: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Београд: </a:t>
            </a:r>
            <a:r>
              <a:rPr b="0" lang="sr-Latn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op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099C-7F42-4A48-8F5A-3E5DCAE29CF4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835560" y="314172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66"/>
                </a:solidFill>
                <a:latin typeface="Verdana"/>
              </a:rPr>
              <a:t>Препоручена литератур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340000" y="119700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тегрисане студије фармациј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Calibri Light"/>
              </a:rPr>
              <a:t>Ф</a:t>
            </a:r>
            <a:r>
              <a:rPr b="1" lang="sr-CS" sz="2400" spc="-1" strike="noStrike">
                <a:solidFill>
                  <a:srgbClr val="000066"/>
                </a:solidFill>
                <a:latin typeface="Calibri Light"/>
              </a:rPr>
              <a:t>АРМАЦЕУТСКА НЕГ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11280" y="1981080"/>
            <a:ext cx="799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Опште прихваћена дефиниција Хеплера и Странд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ове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„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Фармацеутска нега је одговорно обезбеђење медикаментне терапије у циљу остварења коначних исхода који пацијенту побољшавају квалитет живота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“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8D4E-3798-4301-8EA3-00A8F731CA2B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F0EE-CA0F-4219-985F-85F7E1E353AA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Calibri Light"/>
              </a:rPr>
              <a:t>Фармацеутска нег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подразумева процес сарадње са пацијентом и другим стручњацима на изради, примени и одржавању плана лечења са конкретним исходима за датог пацијента, 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што 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подразумева три основне функције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о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ткривање могућих и постојећих проблема у вези са лековим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р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ешавање постојећих проблема у вези са лековима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 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с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пречавање настанка таквих проблема</a:t>
            </a:r>
            <a:r>
              <a:rPr b="0" lang="sr-Latn-CS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EC53-86DB-4BFA-83CD-3704341A059E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1D5D-4C1C-4C5A-9181-5EDC69C7D300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Calibri Light"/>
              </a:rPr>
              <a:t>Кључни елементи фармацеутске нег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9640" y="1752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1900" spc="-1" strike="noStrike">
                <a:solidFill>
                  <a:srgbClr val="00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ed7d31"/>
                </a:solidFill>
                <a:latin typeface="Calibri"/>
              </a:rPr>
              <a:t>Фармацеут</a:t>
            </a:r>
            <a:r>
              <a:rPr b="1" lang="sr-Latn-CS" sz="1900" spc="-1" strike="noStrike">
                <a:solidFill>
                  <a:srgbClr val="ed7d31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је</a:t>
            </a:r>
            <a:r>
              <a:rPr b="1" lang="sr-CS" sz="19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главни учесник у спровођењу фармацеутске неге, он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Сакупља и документује потребну документацију на систематски и конструктиван начин у циљу сагледавања да ли пацијент има потенцијалне или стварне проблеме са лековим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Одређује и наводи проблеме са лековима које пацијент има или постоји ризик да их им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У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тврђује и наводи жељене терапијске исходе за сваки идентификовани проблем са лековим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Разматра и рангира све терапијске интервенције од којих би се могло очекивати да дају жељени терапијски исход сваког проблем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је предлоге 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о избору терапијске алтернативе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, и у договору са лекаром је издаје пацијенту;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евидентира дозни режим сваког лека за сваког пацијен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Формулише и документује план фармакотерапијског праћењ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9CB6-29C2-4A85-812D-DF5A67E54D57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B016-4834-4CDA-BEFC-732444D4E258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Calibri Light"/>
              </a:rPr>
              <a:t>У</a:t>
            </a:r>
            <a:r>
              <a:rPr b="1" lang="sr-Latn-CS" sz="2400" spc="-1" strike="noStrike">
                <a:solidFill>
                  <a:srgbClr val="000066"/>
                </a:solidFill>
                <a:latin typeface="Calibri Light"/>
              </a:rPr>
              <a:t>тврђивање ризика у клиничкој пракс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Први корак у процесу фармацеутске неге је утврђивање могућих проблема који представљају ф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актор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е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ризика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, а могу 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се 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 сврстати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у три категорије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Клиничке </a:t>
            </a:r>
            <a:r>
              <a:rPr b="1" lang="sr-Latn-CS" sz="1900" spc="-1" strike="noStrike">
                <a:solidFill>
                  <a:srgbClr val="000066"/>
                </a:solidFill>
                <a:latin typeface="Calibri"/>
              </a:rPr>
              <a:t>карактеристике пацијента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– то су физичке и лако доступне карактеристике као што су старост, пол, народност, трудноћа, имунолошки статус, функција бубрега, јетре и срца, статус ухрањености и очекивања пацијен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1900" spc="-1" strike="noStrike">
                <a:solidFill>
                  <a:srgbClr val="000066"/>
                </a:solidFill>
                <a:latin typeface="Calibri"/>
              </a:rPr>
              <a:t>Болест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– процене, брзина и степен оштећења изазваних болешћу и перцепција тих фактора од стране пацијен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1900" spc="-1" strike="noStrike">
                <a:solidFill>
                  <a:srgbClr val="000066"/>
                </a:solidFill>
                <a:latin typeface="Calibri"/>
              </a:rPr>
              <a:t>Фармакотерапија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– ризик се утврђује проценом токсичности медикаментне терапије,   безбедоносн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ог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профил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а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лека , начина и техника за примену лекова и перцепција ова три елемента од стране пацијен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73F1-76A4-47B4-8710-53A263F4AD9E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949A-0017-4164-BAC1-EAEBF88B4C3A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361360" cy="12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1900" spc="-1" strike="noStrike">
                <a:solidFill>
                  <a:srgbClr val="000066"/>
                </a:solidFill>
                <a:latin typeface="Calibri Light"/>
              </a:rPr>
              <a:t>М</a:t>
            </a:r>
            <a:r>
              <a:rPr b="1" lang="sr-Latn-CS" sz="1900" spc="-1" strike="noStrike">
                <a:solidFill>
                  <a:srgbClr val="000066"/>
                </a:solidFill>
                <a:latin typeface="Calibri Light"/>
              </a:rPr>
              <a:t>огућ</a:t>
            </a:r>
            <a:r>
              <a:rPr b="1" lang="sr-CS" sz="19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1" lang="sr-Latn-CS" sz="1900" spc="-1" strike="noStrike">
                <a:solidFill>
                  <a:srgbClr val="000066"/>
                </a:solidFill>
                <a:latin typeface="Calibri Light"/>
              </a:rPr>
              <a:t> проблем</a:t>
            </a:r>
            <a:r>
              <a:rPr b="1" lang="sr-CS" sz="19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0" lang="sr-Latn-CS" sz="1900" spc="-1" strike="noStrike">
                <a:solidFill>
                  <a:srgbClr val="000066"/>
                </a:solidFill>
                <a:latin typeface="Calibri Light"/>
              </a:rPr>
              <a:t> са којима се фармацеут може срести приликом пружања фармацеутске неге</a:t>
            </a:r>
            <a:r>
              <a:rPr b="0" lang="sr-CS" sz="1900" spc="-1" strike="noStrike">
                <a:solidFill>
                  <a:srgbClr val="000066"/>
                </a:solidFill>
                <a:latin typeface="Calibri Light"/>
              </a:rPr>
              <a:t> се јављају у случају</a:t>
            </a:r>
            <a:r>
              <a:rPr b="0" lang="sr-Latn-CS" sz="1900" spc="-1" strike="noStrike">
                <a:solidFill>
                  <a:srgbClr val="ffff00"/>
                </a:solidFill>
                <a:latin typeface="Calibri Light"/>
              </a:rPr>
              <a:t>: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120" y="19810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 је прописан лек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без медицинск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е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индикациј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 није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прописан лек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 за одређену медицинску индикацију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 п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рописани лекови не одговарају датом медицинском стањ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 је прописана н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еодговарајућа доза, облик дозирања, распоред примене, начин или метод примен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т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ерапијск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е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дупликациј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 су п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ропис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ани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леков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и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на које је пацијент алергичан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п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остојећ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их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и потенцијалн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их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нежељен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их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дејст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а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ва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 леков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п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остојеће или потенцијалне нежељене, клинички значајне реакције на релацији лек-лек, лек-болест, лек-намирница, и лек-лабораторијски тес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 н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ије остварена потпуна корист од прописане терапиј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ф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инансијски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х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проблем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а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које пацијент има због терапиј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 п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ацијент не разуме терапиј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 се п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ацијент  не придржава режима лечењ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4998-2DBA-4ACF-99A6-32154F606A42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1F67-A1D8-4B76-841E-5BC9D602968D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361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sr-CS" sz="1800" spc="-1" strike="noStrike">
                <a:solidFill>
                  <a:srgbClr val="000066"/>
                </a:solidFill>
                <a:latin typeface="Calibri Light"/>
              </a:rPr>
              <a:t>М</a:t>
            </a:r>
            <a:r>
              <a:rPr b="1" lang="sr-Latn-CS" sz="1800" spc="-1" strike="noStrike">
                <a:solidFill>
                  <a:srgbClr val="000066"/>
                </a:solidFill>
                <a:latin typeface="Calibri Light"/>
              </a:rPr>
              <a:t>огућ</a:t>
            </a:r>
            <a:r>
              <a:rPr b="1" lang="sr-CS" sz="18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1" lang="sr-Latn-CS" sz="1800" spc="-1" strike="noStrike">
                <a:solidFill>
                  <a:srgbClr val="000066"/>
                </a:solidFill>
                <a:latin typeface="Calibri Light"/>
              </a:rPr>
              <a:t> проблем</a:t>
            </a:r>
            <a:r>
              <a:rPr b="1" lang="sr-CS" sz="18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0" lang="sr-Latn-CS" sz="1800" spc="-1" strike="noStrike">
                <a:solidFill>
                  <a:srgbClr val="000066"/>
                </a:solidFill>
                <a:latin typeface="Calibri Light"/>
              </a:rPr>
              <a:t> са којима се фармацеут може срести приликом пружања фармацеутске неге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Calibri"/>
              </a:rPr>
              <a:t>Фармацеутски </a:t>
            </a:r>
            <a:r>
              <a:rPr b="0" lang="sr-CS" sz="1800" spc="-1" strike="noStrike">
                <a:solidFill>
                  <a:srgbClr val="000066"/>
                </a:solidFill>
                <a:latin typeface="Calibri"/>
              </a:rPr>
              <a:t>р</a:t>
            </a:r>
            <a:r>
              <a:rPr b="0" lang="sr-Latn-CS" sz="1800" spc="-1" strike="noStrike">
                <a:solidFill>
                  <a:srgbClr val="000066"/>
                </a:solidFill>
                <a:latin typeface="Calibri"/>
              </a:rPr>
              <a:t>изик за пацијента</a:t>
            </a:r>
            <a:r>
              <a:rPr b="0" lang="sr-CS" sz="1800" spc="-1" strike="noStrike">
                <a:solidFill>
                  <a:srgbClr val="000066"/>
                </a:solidFill>
                <a:latin typeface="Calibri"/>
              </a:rPr>
              <a:t> због могућих проблема везаних за лек </a:t>
            </a:r>
            <a:r>
              <a:rPr b="0" lang="sr-Latn-CS" sz="18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800" spc="-1" strike="noStrike">
                <a:solidFill>
                  <a:srgbClr val="000066"/>
                </a:solidFill>
                <a:latin typeface="Calibri"/>
              </a:rPr>
              <a:t>Неодговарајућа веза између индикације и прописане терапиј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Calibri"/>
              </a:rPr>
              <a:t>Ефикасност</a:t>
            </a:r>
            <a:r>
              <a:rPr b="0" lang="sr-RS" sz="1800" spc="-1" strike="noStrike">
                <a:solidFill>
                  <a:srgbClr val="000066"/>
                </a:solidFill>
                <a:latin typeface="Calibri"/>
              </a:rPr>
              <a:t> прописане терап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FC6B-445E-4F40-9959-291D1DC40078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1E39-3A6D-4BBA-8312-FB0CD2170CF2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39628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Calibri Light"/>
              </a:rPr>
              <a:t>М</a:t>
            </a:r>
            <a:r>
              <a:rPr b="1" lang="sr-Latn-CS" sz="2000" spc="-1" strike="noStrike">
                <a:solidFill>
                  <a:srgbClr val="000066"/>
                </a:solidFill>
                <a:latin typeface="Calibri Light"/>
              </a:rPr>
              <a:t>огућ</a:t>
            </a:r>
            <a:r>
              <a:rPr b="1" lang="sr-CS" sz="20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1" lang="sr-Latn-CS" sz="2000" spc="-1" strike="noStrike">
                <a:solidFill>
                  <a:srgbClr val="000066"/>
                </a:solidFill>
                <a:latin typeface="Calibri Light"/>
              </a:rPr>
              <a:t> проблем</a:t>
            </a:r>
            <a:r>
              <a:rPr b="1" lang="sr-CS" sz="20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0" lang="sr-Latn-CS" sz="2000" spc="-1" strike="noStrike">
                <a:solidFill>
                  <a:srgbClr val="000066"/>
                </a:solidFill>
                <a:latin typeface="Calibri Light"/>
              </a:rPr>
              <a:t> са којима се фармацеут може срести приликом пружања фармацеутске неге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фармацеут мора да премести фокус са 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лека/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рецепта на пацијента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 и да свој допринос разматрајући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2600" spc="-1" strike="noStrike">
                <a:solidFill>
                  <a:srgbClr val="000066"/>
                </a:solidFill>
                <a:latin typeface="Calibri"/>
              </a:rPr>
              <a:t>Ф</a:t>
            </a:r>
            <a:r>
              <a:rPr b="1" lang="sr-Latn-CS" sz="2600" spc="-1" strike="noStrike">
                <a:solidFill>
                  <a:srgbClr val="000066"/>
                </a:solidFill>
                <a:latin typeface="Calibri"/>
              </a:rPr>
              <a:t>армацеутск</a:t>
            </a:r>
            <a:r>
              <a:rPr b="1" lang="sr-CS" sz="2600" spc="-1" strike="noStrike">
                <a:solidFill>
                  <a:srgbClr val="000066"/>
                </a:solidFill>
                <a:latin typeface="Calibri"/>
              </a:rPr>
              <a:t>е проблеме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утвр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ђујући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 нетачности у погледу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 прописане терапије, које се односе на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д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озирањ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е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о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блик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н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ачин примене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в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реме дозирања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дужину терапије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интервал примене лека и д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C599-59DA-47B8-B82F-DDB1432FD34F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E0B8-DA3C-413C-A476-B4957ED343C5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39628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Calibri Light"/>
              </a:rPr>
              <a:t>М</a:t>
            </a:r>
            <a:r>
              <a:rPr b="1" lang="sr-Latn-CS" sz="2000" spc="-1" strike="noStrike">
                <a:solidFill>
                  <a:srgbClr val="000066"/>
                </a:solidFill>
                <a:latin typeface="Calibri Light"/>
              </a:rPr>
              <a:t>огућ</a:t>
            </a:r>
            <a:r>
              <a:rPr b="1" lang="sr-CS" sz="20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1" lang="sr-Latn-CS" sz="2000" spc="-1" strike="noStrike">
                <a:solidFill>
                  <a:srgbClr val="000066"/>
                </a:solidFill>
                <a:latin typeface="Calibri Light"/>
              </a:rPr>
              <a:t> проблем</a:t>
            </a:r>
            <a:r>
              <a:rPr b="1" lang="sr-CS" sz="20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0" lang="sr-Latn-CS" sz="2000" spc="-1" strike="noStrike">
                <a:solidFill>
                  <a:srgbClr val="000066"/>
                </a:solidFill>
                <a:latin typeface="Calibri Light"/>
              </a:rPr>
              <a:t> са којима се фармацеут може срести приликом пружања фармацеутске неге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 погледу 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процене</a:t>
            </a:r>
            <a:r>
              <a:rPr b="1" lang="sr-CS" sz="2600" spc="-1" strike="noStrike">
                <a:solidFill>
                  <a:srgbClr val="000066"/>
                </a:solidFill>
                <a:latin typeface="Calibri"/>
              </a:rPr>
              <a:t> р</a:t>
            </a:r>
            <a:r>
              <a:rPr b="1" lang="sr-Latn-CS" sz="2600" spc="-1" strike="noStrike">
                <a:solidFill>
                  <a:srgbClr val="000066"/>
                </a:solidFill>
                <a:latin typeface="Calibri"/>
              </a:rPr>
              <a:t>изи</a:t>
            </a:r>
            <a:r>
              <a:rPr b="1" lang="sr-CS" sz="2600" spc="-1" strike="noStrike">
                <a:solidFill>
                  <a:srgbClr val="000066"/>
                </a:solidFill>
                <a:latin typeface="Calibri"/>
              </a:rPr>
              <a:t>ка</a:t>
            </a:r>
            <a:r>
              <a:rPr b="1" lang="sr-Latn-CS" sz="2600" spc="-1" strike="noStrike">
                <a:solidFill>
                  <a:srgbClr val="000066"/>
                </a:solidFill>
                <a:latin typeface="Calibri"/>
              </a:rPr>
              <a:t> за пацијента</a:t>
            </a:r>
            <a:r>
              <a:rPr b="1" lang="sr-CS" sz="26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утвр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ђујући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 ризике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, који се односе н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п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ознате контраиндикације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интеракције (л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ек-лек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 л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ек-болест/стање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 л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ек-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храна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л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ек-лабораторијски тест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а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лергије на лекове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п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роблема које прави лек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н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еправилна употреба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н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ајчешћа/озб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љна нежељена дејства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као и ризике који се односе на г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решк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е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 у терапији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EB4A-5E11-4A2F-8DFD-8047EC0758BA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3859-C4B7-44CB-851B-5BCEBD5572B9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2100" spc="-1" strike="noStrike">
                <a:solidFill>
                  <a:srgbClr val="000066"/>
                </a:solidFill>
                <a:latin typeface="Calibri Light"/>
              </a:rPr>
              <a:t>М</a:t>
            </a:r>
            <a:r>
              <a:rPr b="1" lang="sr-Latn-CS" sz="2100" spc="-1" strike="noStrike">
                <a:solidFill>
                  <a:srgbClr val="000066"/>
                </a:solidFill>
                <a:latin typeface="Calibri Light"/>
              </a:rPr>
              <a:t>огућ</a:t>
            </a:r>
            <a:r>
              <a:rPr b="1" lang="sr-CS" sz="21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1" lang="sr-Latn-CS" sz="2100" spc="-1" strike="noStrike">
                <a:solidFill>
                  <a:srgbClr val="000066"/>
                </a:solidFill>
                <a:latin typeface="Calibri Light"/>
              </a:rPr>
              <a:t> проблем</a:t>
            </a:r>
            <a:r>
              <a:rPr b="1" lang="sr-CS" sz="21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0" lang="sr-Latn-CS" sz="2100" spc="-1" strike="noStrike">
                <a:solidFill>
                  <a:srgbClr val="000066"/>
                </a:solidFill>
                <a:latin typeface="Calibri Light"/>
              </a:rPr>
              <a:t> са којима се фармацеут може срести приликом пружања фармацеутске неге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2600" spc="-1" strike="noStrike">
                <a:solidFill>
                  <a:srgbClr val="000066"/>
                </a:solidFill>
                <a:latin typeface="Calibri"/>
              </a:rPr>
              <a:t>Питања ефикасности 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прописане терапије</a:t>
            </a:r>
            <a:r>
              <a:rPr b="1" lang="sr-Latn-CS" sz="26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утвр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ђујући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 следеће: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с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убоптимални избор фармакотерапије за индикације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д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оказ терапијске ефикасности је минималан или не постоји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с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убоптимална фармакотерапија (неправилн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а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употреба 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лекова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пре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т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ходна непријатна искуства са лековима или пацијент не верује да лек делује)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д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оступност лекова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као и могућност да их пацијент пла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A568-9853-4CB3-AC89-CC42BE3AA453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8458-9006-4FF7-A880-23D1C543E2EB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Calibri Light"/>
              </a:rPr>
              <a:t>Фармацеутска нега</a:t>
            </a:r>
            <a:r>
              <a:rPr b="0" lang="sr-CS" sz="1800" spc="-1" strike="noStrike">
                <a:solidFill>
                  <a:srgbClr val="000066"/>
                </a:solidFill>
                <a:latin typeface="Calibri Light"/>
              </a:rPr>
              <a:t> је цикличан процес: неопходно је периодично спроводити поновне процене постојања / решавања проблема, односно стања пацијент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46EB-B901-43FA-AD5B-EA01883FBFE3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661C-92B8-414C-BD0E-785F45B687FC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5334120" y="4343400"/>
            <a:ext cx="327636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Arial"/>
              </a:rPr>
              <a:t>ТЕРАПИЈСКИ ПОСТУПЦ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&amp;</a:t>
            </a:r>
            <a:r>
              <a:rPr b="1" lang="sr-CS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Arial"/>
              </a:rPr>
              <a:t>ИМПЛЕМЕНТ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762120" y="4343400"/>
            <a:ext cx="281916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Arial"/>
              </a:rPr>
              <a:t>ИСХОД ЛЕЧЕ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3124080" y="25909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Arial"/>
              </a:rPr>
              <a:t>ПРОЦЕ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2971800" y="5943600"/>
            <a:ext cx="327672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Arial"/>
              </a:rPr>
              <a:t>МОНИТОРИНГ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Arial"/>
              </a:rPr>
              <a:t>(КОНТРОЛЕ / ПРАЋЕЊ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1828800" y="2743200"/>
            <a:ext cx="914400" cy="1447920"/>
          </a:xfrm>
          <a:custGeom>
            <a:avLst/>
            <a:gdLst>
              <a:gd name="textAreaLeft" fmla="*/ 525960 w 914400"/>
              <a:gd name="textAreaRight" fmla="*/ 771840 w 914400"/>
              <a:gd name="textAreaTop" fmla="*/ 195120 h 1447920"/>
              <a:gd name="textAreaBottom" fmla="*/ 61992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AutoShape 9"/>
          <p:cNvSpPr/>
          <p:nvPr/>
        </p:nvSpPr>
        <p:spPr>
          <a:xfrm rot="5400000">
            <a:off x="6400440" y="2971800"/>
            <a:ext cx="1219320" cy="1219320"/>
          </a:xfrm>
          <a:custGeom>
            <a:avLst/>
            <a:gdLst>
              <a:gd name="textAreaLeft" fmla="*/ 701640 w 1219320"/>
              <a:gd name="textAreaRight" fmla="*/ 1028880 w 1219320"/>
              <a:gd name="textAreaTop" fmla="*/ 164160 h 1219320"/>
              <a:gd name="textAreaBottom" fmla="*/ 5220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AutoShape 10"/>
          <p:cNvSpPr/>
          <p:nvPr/>
        </p:nvSpPr>
        <p:spPr>
          <a:xfrm rot="10800000">
            <a:off x="6553080" y="5333760"/>
            <a:ext cx="990720" cy="1523880"/>
          </a:xfrm>
          <a:custGeom>
            <a:avLst/>
            <a:gdLst>
              <a:gd name="textAreaLeft" fmla="*/ 569880 w 990720"/>
              <a:gd name="textAreaRight" fmla="*/ 836280 w 990720"/>
              <a:gd name="textAreaTop" fmla="*/ 205200 h 1523880"/>
              <a:gd name="textAreaBottom" fmla="*/ 6523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AutoShape 11"/>
          <p:cNvSpPr/>
          <p:nvPr/>
        </p:nvSpPr>
        <p:spPr>
          <a:xfrm rot="16200000">
            <a:off x="1676160" y="5257440"/>
            <a:ext cx="1219320" cy="1218960"/>
          </a:xfrm>
          <a:custGeom>
            <a:avLst/>
            <a:gdLst>
              <a:gd name="textAreaLeft" fmla="*/ 701640 w 1219320"/>
              <a:gd name="textAreaRight" fmla="*/ 1028880 w 1219320"/>
              <a:gd name="textAreaTop" fmla="*/ 164160 h 1218960"/>
              <a:gd name="textAreaBottom" fmla="*/ 52164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86A2-F336-4C85-AFBB-A5BA0A3D4E75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068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4300" spc="-1" strike="noStrike">
                <a:solidFill>
                  <a:srgbClr val="000066"/>
                </a:solidFill>
                <a:latin typeface="Calibri"/>
                <a:ea typeface="Calibri"/>
              </a:rPr>
              <a:t>Увод у праксу клиничке фармације</a:t>
            </a:r>
            <a:br>
              <a:rPr sz="4300"/>
            </a:br>
            <a:br>
              <a:rPr sz="4300"/>
            </a:br>
            <a:r>
              <a:rPr b="1" lang="sr-CS" sz="4300" spc="-1" strike="noStrike">
                <a:solidFill>
                  <a:srgbClr val="000066"/>
                </a:solidFill>
                <a:latin typeface="Calibri"/>
                <a:ea typeface="Calibri"/>
              </a:rPr>
              <a:t>пацијент у фокусу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340000" y="119700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тегрисане студије фармациј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4000" y="1700280"/>
            <a:ext cx="8686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400" spc="-1" strike="noStrike">
                <a:solidFill>
                  <a:srgbClr val="000066"/>
                </a:solidFill>
                <a:latin typeface="Calibri"/>
              </a:rPr>
              <a:t>Кораци у циклусу фармацеутске здравствене             зашти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000" spc="-1" strike="noStrike">
                <a:solidFill>
                  <a:srgbClr val="000066"/>
                </a:solidFill>
                <a:latin typeface="Calibri"/>
              </a:rPr>
              <a:t>Прикупљање релевантних података за израду плана праћења ефикасности и безбедности терапије (плана </a:t>
            </a:r>
            <a:r>
              <a:rPr b="0" i="1" lang="sr-CS" sz="2000" spc="-1" strike="noStrike">
                <a:solidFill>
                  <a:srgbClr val="000066"/>
                </a:solidFill>
                <a:latin typeface="Calibri"/>
              </a:rPr>
              <a:t>фармацеутске неге</a:t>
            </a:r>
            <a:r>
              <a:rPr b="0" lang="sr-CS" sz="2000" spc="-1" strike="noStrike">
                <a:solidFill>
                  <a:srgbClr val="000066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000" spc="-1" strike="noStrike">
                <a:solidFill>
                  <a:srgbClr val="000066"/>
                </a:solidFill>
                <a:latin typeface="Calibri"/>
              </a:rPr>
              <a:t>Идентификација  проблема везаних за примену лекова</a:t>
            </a:r>
            <a:r>
              <a:rPr b="0" lang="sr-Latn-CS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66"/>
                </a:solidFill>
                <a:latin typeface="Calibri"/>
              </a:rPr>
              <a:t>и категорисање проблема према приоритету (потреби за хитним</a:t>
            </a:r>
            <a:r>
              <a:rPr b="0" lang="sr-Latn-CS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66"/>
                </a:solidFill>
                <a:latin typeface="Calibri"/>
              </a:rPr>
              <a:t>реаговање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000" spc="-1" strike="noStrike">
                <a:solidFill>
                  <a:srgbClr val="000066"/>
                </a:solidFill>
                <a:latin typeface="Calibri"/>
              </a:rPr>
              <a:t>Дефинисање циљева лечења, тј. пожељног (их) исхода за сваки актуелни или потенцијални пробле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47F5-3DFC-475F-9547-889CBA1ECCC5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67BA-E209-4CF7-8C43-7FEC82F4918F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33160" y="1699920"/>
            <a:ext cx="84582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Детаљна процена сваког појединачног проблема (обухвата и разматрање утицаја евентуалних удружених патолошких стања, односно других лекова које пацијент истовремено користи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Дефинисање терапијских могућности / алтернатива (медикаментозних и нефармаколошких) у циљу остварења пожељног (их) исход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Имплементација (примена) најбољег избора лечења: измена претходне терапије у смислу увођења новог лека, замене одређеног лека другим и/или обуставе употребе појединих медикамент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Мониторинг клиничког ефекта и безбедности медикаментозне терапије, као и комплијансе (мишљења / става пацијента о примењеној терапији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42A7-6AEB-46A1-930A-EDA2E29567D5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E66A-0EE5-4506-A3DD-0CB4B605DB5D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23560" y="1413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 Light"/>
              </a:rPr>
              <a:t>Проценом ризика и користи фармакотерапије остварује се основни циљ</a:t>
            </a:r>
            <a:r>
              <a:rPr b="0" lang="sr-CS" sz="2100" spc="-1" strike="noStrike">
                <a:solidFill>
                  <a:srgbClr val="ffff00"/>
                </a:solidFill>
                <a:latin typeface="Calibri Ligh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47280" y="2420640"/>
            <a:ext cx="8001000" cy="4267080"/>
          </a:xfrm>
          <a:prstGeom prst="rect">
            <a:avLst/>
          </a:prstGeom>
          <a:ln w="0">
            <a:noFill/>
          </a:ln>
        </p:spPr>
      </p:pic>
      <p:sp>
        <p:nvSpPr>
          <p:cNvPr id="211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AC42-F07F-4509-9F1F-A53B2F5343CB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DBA9-B8B9-418E-99B7-CC638C231783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1447920" y="3200400"/>
            <a:ext cx="3809880" cy="1828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ahoma"/>
              </a:rPr>
              <a:t>Обезбеђењ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ahoma"/>
              </a:rPr>
              <a:t>ефикасне терап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4648320" y="3048120"/>
            <a:ext cx="3657600" cy="19810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ahoma"/>
              </a:rPr>
              <a:t>Обезбеђењ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ahoma"/>
              </a:rPr>
              <a:t>безбедне терап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sr-CS" sz="1900" spc="-1" strike="noStrike">
                <a:solidFill>
                  <a:srgbClr val="000066"/>
                </a:solidFill>
                <a:latin typeface="Calibri Light"/>
              </a:rPr>
              <a:t>В</a:t>
            </a:r>
            <a:r>
              <a:rPr b="1" lang="sr-Latn-CS" sz="1900" spc="-1" strike="noStrike">
                <a:solidFill>
                  <a:srgbClr val="000066"/>
                </a:solidFill>
                <a:latin typeface="Calibri Light"/>
              </a:rPr>
              <a:t>изија професије</a:t>
            </a:r>
            <a:r>
              <a:rPr b="1" lang="sr-CS" sz="1900" spc="-1" strike="noStrike">
                <a:solidFill>
                  <a:srgbClr val="000066"/>
                </a:solidFill>
                <a:latin typeface="Calibri Light"/>
              </a:rPr>
              <a:t> фармацеута</a:t>
            </a:r>
            <a:endParaRPr b="0" lang="en-US" sz="1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66"/>
                </a:solidFill>
                <a:latin typeface="Calibri"/>
              </a:rPr>
              <a:t>Ф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армацеути  признати и цењени истакнути здравствени професионалци одговорни за 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употребу 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 лекова у превенцији и терапији болест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8063-A193-4A69-AD1E-56592CA06D0B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2276640"/>
            <a:ext cx="8001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Да би се ова визија испунила, професија мора 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да 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обезбеди  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квалификован кадар - </a:t>
            </a:r>
            <a:r>
              <a:rPr b="0" lang="sr-Latn-CS" sz="2100" spc="-1" strike="noStrike">
                <a:solidFill>
                  <a:srgbClr val="ed7d31"/>
                </a:solidFill>
                <a:latin typeface="Calibri"/>
              </a:rPr>
              <a:t>клиничке фармацеуте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,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 који поседују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 одговарајуће знање и вештине, да би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  дали свој допринос успешном лечењу пацијенат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Клинички фармацеут ≠ клинички фармаколо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7B85-C801-400E-A1DB-A614A16D4B9B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sr-Latn-CS" sz="3000" spc="-1" strike="noStrike">
                <a:solidFill>
                  <a:srgbClr val="000066"/>
                </a:solidFill>
                <a:latin typeface="Calibri Light"/>
              </a:rPr>
              <a:t>Клиничка фармација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66280" y="2204640"/>
            <a:ext cx="80010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је п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одручје фармације које се </a:t>
            </a:r>
            <a:r>
              <a:rPr b="1" lang="sr-Latn-CS" sz="2600" spc="-1" strike="noStrike">
                <a:solidFill>
                  <a:srgbClr val="000066"/>
                </a:solidFill>
                <a:latin typeface="Calibri"/>
              </a:rPr>
              <a:t>научно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и </a:t>
            </a:r>
            <a:r>
              <a:rPr b="1" lang="sr-Latn-CS" sz="2600" spc="-1" strike="noStrike">
                <a:solidFill>
                  <a:srgbClr val="000066"/>
                </a:solidFill>
                <a:latin typeface="Calibri"/>
              </a:rPr>
              <a:t>практично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 бави рационалном применом лек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је дисциплина здравствених наука у којој фармацеути пружају негу пацијентима којом 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обезбеђују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оптим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алну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 медикаментозну терапију и 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на тај начин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унапређују здравље и добробит 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пацијенат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Такође, имају активну улогу у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 превенцији боле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FB2E-BA0C-4FA4-9E38-AA9C3AE2F503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Пракса клиничке фармације обухвата филозофију фармацеутске неге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она спаја опредељење за негу са специјализованим терапеутским знањем, искуством и проценом са циљем да обезбеди оптимал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а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н исход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 лечења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 пацијена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4F9D-818D-42A4-BF92-1240F9E0709C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sr-Latn-CS" sz="3000" spc="-1" strike="noStrike">
                <a:solidFill>
                  <a:srgbClr val="000066"/>
                </a:solidFill>
                <a:latin typeface="Calibri Light"/>
              </a:rPr>
              <a:t>Клинички фармацеут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0920" y="22050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брине о пацијентим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600" spc="-1" strike="noStrike">
                <a:solidFill>
                  <a:srgbClr val="ed7d31"/>
                </a:solidFill>
                <a:latin typeface="Calibri"/>
              </a:rPr>
              <a:t>у свим окружењима здравствене заштит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треба да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поседујe  знање о лековима које је интегрисано са темељним разумевањем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биомедицински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фармацеутски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социобихевиоралних 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клиничких нау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0287-7AE0-421C-9FC9-B7DD6C90E302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3300" spc="-1" strike="noStrike">
                <a:solidFill>
                  <a:srgbClr val="000066"/>
                </a:solidFill>
                <a:latin typeface="Calibri Light"/>
              </a:rPr>
              <a:t>Клинички фармацеут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000" y="206064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Calibri"/>
                <a:ea typeface="Calibri"/>
              </a:rPr>
              <a:t>У оквиру система здравствене заштите, клинички фармацеути су стручњаци за терапеутску примену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Calibri"/>
                <a:ea typeface="Calibri"/>
              </a:rPr>
              <a:t>рутински обезбеђујe процене и препоруке</a:t>
            </a:r>
            <a:r>
              <a:rPr b="0" lang="sr-CS" sz="2800" spc="-1" strike="noStrike">
                <a:solidFill>
                  <a:srgbClr val="000066"/>
                </a:solidFill>
                <a:latin typeface="Calibri"/>
                <a:ea typeface="Calibri"/>
              </a:rPr>
              <a:t>, које се односе на </a:t>
            </a:r>
            <a:r>
              <a:rPr b="0" lang="sr-Latn-CS" sz="2800" spc="-1" strike="noStrike">
                <a:solidFill>
                  <a:srgbClr val="000066"/>
                </a:solidFill>
                <a:latin typeface="Calibri"/>
                <a:ea typeface="Calibri"/>
              </a:rPr>
              <a:t>медикаментозн</a:t>
            </a:r>
            <a:r>
              <a:rPr b="0" lang="sr-CS" sz="2800" spc="-1" strike="noStrike">
                <a:solidFill>
                  <a:srgbClr val="000066"/>
                </a:solidFill>
                <a:latin typeface="Calibri"/>
                <a:ea typeface="Calibri"/>
              </a:rPr>
              <a:t>у</a:t>
            </a:r>
            <a:r>
              <a:rPr b="0" lang="sr-Latn-CS" sz="2800" spc="-1" strike="noStrike">
                <a:solidFill>
                  <a:srgbClr val="000066"/>
                </a:solidFill>
                <a:latin typeface="Calibri"/>
                <a:ea typeface="Calibri"/>
              </a:rPr>
              <a:t> терапиј</a:t>
            </a:r>
            <a:r>
              <a:rPr b="0" lang="sr-CS" sz="2800" spc="-1" strike="noStrike">
                <a:solidFill>
                  <a:srgbClr val="000066"/>
                </a:solidFill>
                <a:latin typeface="Calibri"/>
                <a:ea typeface="Calibri"/>
              </a:rPr>
              <a:t>у</a:t>
            </a:r>
            <a:r>
              <a:rPr b="0" lang="sr-Latn-CS" sz="2800" spc="-1" strike="noStrike">
                <a:solidFill>
                  <a:srgbClr val="000066"/>
                </a:solidFill>
                <a:latin typeface="Calibri"/>
                <a:ea typeface="Calibri"/>
              </a:rPr>
              <a:t> пацијентима и здравственим професионалц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800" spc="-1" strike="noStrike">
                <a:solidFill>
                  <a:srgbClr val="000066"/>
                </a:solidFill>
                <a:latin typeface="Calibri"/>
                <a:ea typeface="Calibri"/>
              </a:rPr>
              <a:t>поуздан</a:t>
            </a:r>
            <a:r>
              <a:rPr b="0" lang="sr-Latn-CS" sz="2800" spc="-1" strike="noStrike">
                <a:solidFill>
                  <a:srgbClr val="000066"/>
                </a:solidFill>
                <a:latin typeface="Calibri"/>
                <a:ea typeface="Calibri"/>
              </a:rPr>
              <a:t> извор научно валидне информације и савета који се тичу безбедне, одговарајуће, и трошковно ефикасне примене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5EC1-EB43-4E47-9165-EDF4737D2AB9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9-09-12T21:30:27Z</dcterms:modified>
  <cp:revision>15</cp:revision>
  <dc:subject/>
  <dc:title>Slide 1</dc:title>
</cp:coreProperties>
</file>